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E5C5-36F2-4902-9B00-BF5B31CA1F45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9A72-3D8D-4E18-9237-25E899A4FC5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B231-B7BE-458D-9CE3-E1049A80033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91320" y="299880"/>
            <a:ext cx="436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29528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Providing access to your dat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Right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4280" y="4952880"/>
            <a:ext cx="995688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R. Downs, Ph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ocioeconomic Data and Applications Center (SEDAC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enter for International Earth Science Information Network (CIESIN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umbia Universi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4" name="Picture 8" descr=""/>
          <p:cNvPicPr/>
          <p:nvPr/>
        </p:nvPicPr>
        <p:blipFill>
          <a:blip r:embed="rId3"/>
          <a:stretch/>
        </p:blipFill>
        <p:spPr>
          <a:xfrm>
            <a:off x="4154400" y="7658280"/>
            <a:ext cx="2500560" cy="17524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"/>
          <p:cNvPicPr/>
          <p:nvPr/>
        </p:nvPicPr>
        <p:blipFill>
          <a:blip r:embed="rId4"/>
          <a:stretch/>
        </p:blipFill>
        <p:spPr>
          <a:xfrm>
            <a:off x="6692760" y="7924680"/>
            <a:ext cx="1125720" cy="120492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8" descr=""/>
          <p:cNvPicPr/>
          <p:nvPr/>
        </p:nvPicPr>
        <p:blipFill>
          <a:blip r:embed="rId5"/>
          <a:stretch/>
        </p:blipFill>
        <p:spPr>
          <a:xfrm>
            <a:off x="11734920" y="928224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747" name="TextBox 1"/>
          <p:cNvSpPr/>
          <p:nvPr/>
        </p:nvSpPr>
        <p:spPr>
          <a:xfrm>
            <a:off x="4122360" y="9239400"/>
            <a:ext cx="73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Neue Light"/>
              </a:rPr>
              <a:t>Copyright 2011. The Trustees of Columbia University in the City of New York</a:t>
            </a:r>
            <a:endParaRPr b="0" lang="en-US" sz="1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tellectual property rights for the use of data are decided by the producer (or owner, if different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icenses or permissions may allow others to use th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description of the rights for the use of data should be packaged with the data so that potential users can determine what they are allowed to do with th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pplying non-restrictive licenses and open data practices can allow more uses of th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ights also should be described for any documents, software code, or scripts that are needed to use th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ights laws are not the same in every count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 US, copyright is automatically applied to original works, not to facts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tributors, stewards, and end-users of data need to receive rights for using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ors need rights to modify and disseminate the data and to allow others to distribute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tewards need to acquire rights to maintain, modify, and store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nd-users need to acquire rights to use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cipients of rights need to know what rights they have been granted for using the data so that they may exercise their rights and are aware of any restric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Simple language should be used to communicate rights assigned to the user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If clear descriptions of the rights are packaged with the data, then users can easily learn about their rights and requests for rights will be limited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Machine-readable rights descriptions can be harvested for distribution in catalogs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hoices for assigning rights: examp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680" y="2324160"/>
            <a:ext cx="1140912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ublic Domain – not copyrighted, permission is not requir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Works created by some government agencies may be in the public domain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Works in the public domain can be marked to identify them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Rights can be waived by applying a Creative Commons 0 (CC0) license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reativeCommons.org licenses for copyright holder to allow use, dissemination, derivation, integr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 License: requires attribution (cite the source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-ND: requires attribution, no derivatives allowed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-NC License: requires attribution, no commercial use allowed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-SA License: requires attribution, share alike using same license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pache.org license for copyright holder of scripts and computer cod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Applied to code to allow “worldwide, non-exclusive, no-charge, royalty-free, irrevocable copyright license to reproduce, prepare Derivative Works of, publicly display, publicly perform, sublicense, and distribute” (Apache License 2.0, 2004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4" name="Picture 4" descr=""/>
          <p:cNvPicPr/>
          <p:nvPr/>
        </p:nvPicPr>
        <p:blipFill>
          <a:blip r:embed="rId1"/>
          <a:stretch/>
        </p:blipFill>
        <p:spPr>
          <a:xfrm>
            <a:off x="11111040" y="531828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5" descr=""/>
          <p:cNvPicPr/>
          <p:nvPr/>
        </p:nvPicPr>
        <p:blipFill>
          <a:blip r:embed="rId2"/>
          <a:stretch/>
        </p:blipFill>
        <p:spPr>
          <a:xfrm>
            <a:off x="11120400" y="5759280"/>
            <a:ext cx="838080" cy="29556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6" descr=""/>
          <p:cNvPicPr/>
          <p:nvPr/>
        </p:nvPicPr>
        <p:blipFill>
          <a:blip r:embed="rId3"/>
          <a:stretch/>
        </p:blipFill>
        <p:spPr>
          <a:xfrm>
            <a:off x="11142720" y="620568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" descr=""/>
          <p:cNvPicPr/>
          <p:nvPr/>
        </p:nvPicPr>
        <p:blipFill>
          <a:blip r:embed="rId4"/>
          <a:stretch/>
        </p:blipFill>
        <p:spPr>
          <a:xfrm>
            <a:off x="11120400" y="662940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8" descr=""/>
          <p:cNvPicPr/>
          <p:nvPr/>
        </p:nvPicPr>
        <p:blipFill>
          <a:blip r:embed="rId5"/>
          <a:stretch/>
        </p:blipFill>
        <p:spPr>
          <a:xfrm>
            <a:off x="10788480" y="8534520"/>
            <a:ext cx="1482840" cy="4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pache Software Foundation: Licenses http://www.apache.org/licenses/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SD License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ttp://www.freebsd.org/copyright/license.html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Creative Commons http://creativecommons.org/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Gnu Public Licenses (GPL &amp; LGPL)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ttp://www.gnu.org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pen Data Foundation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ttp://www.opendatafoundation.org/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United States Copyright Office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ttp://www.copyright.gov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ir access and us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http://wiki.esipfed.org/images/f/fa/ESIP_module_data_use.pp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ata restriction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http://wiki.esipfed.org/images/a/a2/DataShortCourseModule-DataRestrictionsV1.pp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Handling sensitive dat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http://wiki.esipfed.org/images/6/66/DataShortCourseModule-HandlingSensitiveDataV1.pp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Robert R Downs</dc:creator>
  <dc:description/>
  <dc:language>en-US</dc:language>
  <cp:lastModifiedBy>Robert R Downs</cp:lastModifiedBy>
  <dcterms:modified xsi:type="dcterms:W3CDTF">2011-12-03T05:12:55Z</dcterms:modified>
  <cp:revision>87</cp:revision>
  <dc:subject/>
  <dc:title>ESIP Federation 101</dc:title>
</cp:coreProperties>
</file>